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B757-EE86-48B9-A954-9A077B24A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C4C6-CB3F-4413-BA09-2231D852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32F8-2251-4998-8ECA-A8192DB9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DFE8-7158-4C29-A468-71CE1217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1A29-4A56-4D76-A1C9-9A697751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292B-1929-4435-AD72-6483FFE1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DFC4-32B0-4F51-8ADB-785A9AC9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378B-35E9-4441-A2DA-B2E74E18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D897-CC3F-4F8A-A63B-136A8102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A405-E87C-446E-BAEA-AD8873FE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CF3E-581D-431D-8ED0-AB58EAE3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4586-854F-4B30-9029-7B550AA8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C322-7A1A-457E-BC6E-E5561EC3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BC63-F15B-4AF6-86DC-5026CD07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36E6-B050-41A0-82A6-3D3466F6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C717-E1C4-46A6-B234-F66A1243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6283-996F-4BDB-932C-DE1BED41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2E5-E3D9-4FAE-8A11-43D748E8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9C43-8E70-4181-B14B-79A27290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706F-14FA-4865-9934-61BA8C1A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04DE-F22A-4D25-8A9E-A5C4021D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7E75-EA57-4E5F-AB34-9BBBF8DD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5CD5-6AF4-4A0C-98F8-20CA9D55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00A4-A27D-4B56-A2B6-7011D587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7275-6BDA-439B-A179-B5EAC7BE63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A2C5-84C3-4634-96D5-356DABD088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veryschools.net/164310219153730280/lib/164310219153730280/Picture3.png&amp;imgrefurl=http://www.averyschools.net/164310219153730280/&amp;usg=__gp9aqqwAKaaPxcwGfCqg2_tZT-U=&amp;h=295&amp;w=700&amp;sz=7&amp;hl=en&amp;start=77&amp;um=1&amp;itbs=1&amp;tbnid=mn8z8d_PhnfxNM:&amp;tbnh=59&amp;tbnw=140&amp;prev=/images%3Fq%3Dcontinuum%2Bof%2Bspecial%2Beducation%2Bservices%26ndsp%3D20%26hl%3Den%26safe%3Dactive%26sa%3DN%26start%3D60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ideo.google.com/videoplay?docid=8893323604894846060&amp;hl=en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Session 2: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Understanding Inclus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5397480"/>
            <a:ext cx="270540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351000" y="2431080"/>
            <a:ext cx="8439120" cy="1919160"/>
            <a:chOff x="351000" y="2431080"/>
            <a:chExt cx="8439120" cy="1919160"/>
          </a:xfrm>
        </p:grpSpPr>
        <p:sp>
          <p:nvSpPr>
            <p:cNvPr id="125" name="_s17419"/>
            <p:cNvSpPr/>
            <p:nvPr/>
          </p:nvSpPr>
          <p:spPr>
            <a:xfrm>
              <a:off x="4317120" y="2431080"/>
              <a:ext cx="2130120" cy="1919160"/>
            </a:xfrm>
            <a:prstGeom prst="ellipse">
              <a:avLst/>
            </a:prstGeom>
            <a:solidFill>
              <a:srgbClr val="1c1c1c">
                <a:alpha val="50000"/>
              </a:srgbClr>
            </a:solidFill>
            <a:ln w="572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7420"/>
            <p:cNvSpPr/>
            <p:nvPr/>
          </p:nvSpPr>
          <p:spPr>
            <a:xfrm>
              <a:off x="6660360" y="3151080"/>
              <a:ext cx="21297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Section 50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7421"/>
            <p:cNvSpPr/>
            <p:nvPr/>
          </p:nvSpPr>
          <p:spPr>
            <a:xfrm>
              <a:off x="2694240" y="2431080"/>
              <a:ext cx="2129760" cy="191916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7422"/>
            <p:cNvSpPr/>
            <p:nvPr/>
          </p:nvSpPr>
          <p:spPr>
            <a:xfrm>
              <a:off x="351000" y="3151080"/>
              <a:ext cx="213012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DE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Including Samuel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 for Reflection as you view the vide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Samuel’s teacher in an inclusive classroom, what concerns would you hav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act of Inclusion on Students 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wi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Dis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ademic Perform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roved standardized test scores, reading performance, mastery of IEP goals, grades, on-task behavior, motivation, and att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cial Performanc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on with typically developing peers --- some characterize their experience by fear, frustration, ridicule and isolation while others speak about friendships, intellectual challenges, self-esteem, and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act of Inclusion on Other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act on Studen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withou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is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ademic ---- equal or better performance than those not educated in inclusion classroo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act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duc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act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Pyram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learning_pyramid.jpg"/>
          <p:cNvPicPr/>
          <p:nvPr/>
        </p:nvPicPr>
        <p:blipFill>
          <a:blip r:embed="rId1"/>
          <a:srcRect l="0" t="10449" r="0" b="0"/>
          <a:stretch/>
        </p:blipFill>
        <p:spPr>
          <a:xfrm>
            <a:off x="1066680" y="1674720"/>
            <a:ext cx="74678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r child had a disability, would you prefer a general education or special education setting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r child did not have a disability, which class would you pref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 next clas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 to the previous questions on the blog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be focusing on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E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ext clas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Pictures of Super Bowl 2010 tickets on sale now for Feb. 7, 2010!!!"/>
          <p:cNvPicPr/>
          <p:nvPr/>
        </p:nvPicPr>
        <p:blipFill>
          <a:blip r:embed="rId1"/>
          <a:stretch/>
        </p:blipFill>
        <p:spPr>
          <a:xfrm>
            <a:off x="2819520" y="3886200"/>
            <a:ext cx="571500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ee Appropriate Public Education (FAPE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what all children in the U.S. are entitled to under the Individuals with Disabilities Education Act (IDEA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 does "appropriate" mea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's important to note that "appropriate" does not mean "best," nor does it mean "appropriate to the school district's plans for this year."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aw requires that this FAPE take place in the Least Restrictive Environment (L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ast Restrictive Environment (LR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ome kids, this will mean full i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other kids, a self-contained classroom may in fact be less restrictive and more appropriate.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appropriate" --- interpretations must be individualized to the needs of the child, not the needs of the school or the needs of the distr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vement to I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institution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y Intervention (EI) and Early Childhood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ical Adv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vil Rights Movement and Resulting Liti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ocacy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regated Nature of Special Schools and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roportionate Repres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ucational Re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aws that Shape Special Educ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 94-142: Education for All Handicapped Children Act (197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 99-457: Education for All Handicapped Children Act Amendments (198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provision for the early years (E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 101-476(IDEA): Individuals with </a:t>
            </a: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Disabilit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ducation Act (199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 Amendments of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4267080"/>
            <a:ext cx="8381880" cy="2362320"/>
          </a:xfrm>
          <a:prstGeom prst="rect">
            <a:avLst/>
          </a:prstGeom>
          <a:solidFill>
            <a:srgbClr val="00e4a8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 is organized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ou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art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A, General Pro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B, Assistance for the Education of All Children with Disabilities (school age/preschool progra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C, Infants and Toddlers with Dis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D, National Activities to Improve the Education of Children with Disabilities (support progra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39686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ll children with disabilities are entitled to services under IDEA, only those who are "eligible" under the specified disability categ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38120" y="-360"/>
            <a:ext cx="48006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29440" indent="-3769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-3769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f-Blind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-3769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f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-3769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otional Disturb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-3769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ing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-3769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tal Retard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-3769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Dis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-3769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thopedic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-3769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Health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-3769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 Learning Dis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-3769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or Language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-3769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umatic Brain Inju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-3769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Impairment Including Blind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9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ction 504 of the Rehabilitation Ac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tion 504 is less discriminatory: it prot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ersons with a disability wh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ve a physical or mental impairment which substantially limits one or more major life activities;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record of such an impairment; or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regarded as having such an impairment.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450240" y="1345320"/>
            <a:ext cx="4372560" cy="3771360"/>
            <a:chOff x="3450240" y="1345320"/>
            <a:chExt cx="4372560" cy="3771360"/>
          </a:xfrm>
        </p:grpSpPr>
        <p:sp>
          <p:nvSpPr>
            <p:cNvPr id="118" name="_s12298"/>
            <p:cNvSpPr/>
            <p:nvPr/>
          </p:nvSpPr>
          <p:spPr>
            <a:xfrm>
              <a:off x="3450240" y="2402280"/>
              <a:ext cx="2714040" cy="2714400"/>
            </a:xfrm>
            <a:prstGeom prst="donut">
              <a:avLst>
                <a:gd name="adj" fmla="val 16666"/>
              </a:avLst>
            </a:prstGeom>
            <a:solidFill>
              <a:srgbClr val="ff8c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2299"/>
            <p:cNvSpPr/>
            <p:nvPr/>
          </p:nvSpPr>
          <p:spPr>
            <a:xfrm>
              <a:off x="7099920" y="2552400"/>
              <a:ext cx="722880" cy="6030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All Childre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2296"/>
            <p:cNvSpPr/>
            <p:nvPr/>
          </p:nvSpPr>
          <p:spPr>
            <a:xfrm>
              <a:off x="3902040" y="2854080"/>
              <a:ext cx="1809360" cy="1809720"/>
            </a:xfrm>
            <a:prstGeom prst="donut">
              <a:avLst>
                <a:gd name="adj" fmla="val 25000"/>
              </a:avLst>
            </a:prstGeom>
            <a:solidFill>
              <a:srgbClr val="01bd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2297"/>
            <p:cNvSpPr/>
            <p:nvPr/>
          </p:nvSpPr>
          <p:spPr>
            <a:xfrm>
              <a:off x="7099920" y="1948680"/>
              <a:ext cx="722880" cy="6033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50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2294"/>
            <p:cNvSpPr/>
            <p:nvPr/>
          </p:nvSpPr>
          <p:spPr>
            <a:xfrm>
              <a:off x="4354920" y="3307320"/>
              <a:ext cx="904680" cy="904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2295"/>
            <p:cNvSpPr/>
            <p:nvPr/>
          </p:nvSpPr>
          <p:spPr>
            <a:xfrm>
              <a:off x="7099920" y="1345320"/>
              <a:ext cx="722880" cy="6030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DE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23:56Z</dcterms:created>
  <dc:creator>User</dc:creator>
  <dc:description/>
  <dc:language>en-US</dc:language>
  <cp:lastModifiedBy>User</cp:lastModifiedBy>
  <dcterms:modified xsi:type="dcterms:W3CDTF">2010-02-05T21:03:48Z</dcterms:modified>
  <cp:revision>6</cp:revision>
  <dc:subject/>
  <dc:title>Slide 1</dc:title>
</cp:coreProperties>
</file>